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A5CB-3BEE-45A7-8DC3-27D892DF2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C913-63E2-4F1A-B7DC-F6FCCCD9A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9641-CDC8-403D-8768-EC42660D1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0A5B-DAFD-44F7-87B3-7C8B746421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0120-F613-43AF-98B7-444AB1157D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91B-0AF3-4F86-8AB2-C65EF7EB2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1718-C44D-4078-80CD-FFDB3087E2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8F54-F92C-4CBB-BE81-6ED1C80787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703A-D4B7-4E19-A25D-A301360669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D5FC-B4C6-4DB2-92E3-2159629B0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1415-1994-4174-A4DE-FAFFD3C6A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96E6-FBD5-42F0-94CF-191704C7B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8D93-0236-470D-9933-2D73266A0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ACAB-BC59-4DD9-9D24-BFFBB6B7F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3DC8-2F1D-430E-A36A-3BA9D3E3B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4D2F-1D85-4728-ABB4-70235FF81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60CD-88DF-4A09-B75F-5FDF53B16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9BF-1C19-4A7E-A81E-EB90FF57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4B8-2CC7-4BDA-8B03-0410735D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A16-6233-428F-8501-51038EDA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310-FF0E-447F-9E02-330A8568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871-9B5C-4768-8B32-6D5A61BC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418-2932-4058-999E-5AE7612E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B3B-8C80-4787-91AE-51F67626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72E-0F82-4FEB-9A1D-72449095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85E-AEE7-401E-839E-B2789666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7A4-2179-4BE2-8D84-055477D9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25F-9315-4194-A1D8-CFC5F045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1DB-B385-4F42-A367-E134F6E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7109-57C7-4F5E-B946-CD2EBA2AE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54760" y="228600"/>
            <a:ext cx="617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frica RISIN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9540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.  Assess scalability of integrated innovations (meta-analysis of option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2. Identify and develop scaling approaches for targeted integrated innov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3. Pilot test scaling approaches from action sites within project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4. Develop costed templates for scaling by development inves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5. Evaluate aggregated impact of household level interventions at landscape scale and beyo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6. Evaluate/validate scaling approaches for integrated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umidtropics frontpage image web.png"/>
          <p:cNvPicPr/>
          <p:nvPr/>
        </p:nvPicPr>
        <p:blipFill>
          <a:blip r:embed="rId1"/>
          <a:stretch/>
        </p:blipFill>
        <p:spPr>
          <a:xfrm>
            <a:off x="1295280" y="1676520"/>
            <a:ext cx="7010640" cy="403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-52560" y="762120"/>
            <a:ext cx="9196560" cy="6094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8000"/>
                </a:solidFill>
                <a:latin typeface="Calibri"/>
              </a:rPr>
              <a:t>Humidtropics</a:t>
            </a:r>
            <a:br>
              <a:rPr sz="4000"/>
            </a:b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CRP1.2 Integrated Systems for the Humid Trop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048120" y="6156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humidtropic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4005" t="11901" r="2542" b="13870"/>
          <a:stretch/>
        </p:blipFill>
        <p:spPr>
          <a:xfrm>
            <a:off x="0" y="2421000"/>
            <a:ext cx="38336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Box 3"/>
          <p:cNvSpPr/>
          <p:nvPr/>
        </p:nvSpPr>
        <p:spPr>
          <a:xfrm>
            <a:off x="0" y="1295280"/>
            <a:ext cx="3833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ier 2: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ur sites: 2015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4539" t="7783" r="6183" b="2753"/>
          <a:stretch/>
        </p:blipFill>
        <p:spPr>
          <a:xfrm>
            <a:off x="4648320" y="4059360"/>
            <a:ext cx="2293920" cy="27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2761" t="5052" r="4384" b="3446"/>
          <a:stretch/>
        </p:blipFill>
        <p:spPr>
          <a:xfrm>
            <a:off x="4648320" y="533520"/>
            <a:ext cx="451332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0" y="685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ier 1: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Four sites: 2012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50840"/>
            <a:ext cx="472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882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ier 3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 sites: 2017-20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>
            <a:off x="490680" y="1050840"/>
            <a:ext cx="8353440" cy="4464000"/>
          </a:xfrm>
          <a:custGeom>
            <a:avLst/>
            <a:gdLst/>
            <a:ahLst/>
            <a:rect l="l" t="t" r="r" b="b"/>
            <a:pathLst>
              <a:path w="3726" h="2873">
                <a:moveTo>
                  <a:pt x="7" y="46"/>
                </a:moveTo>
                <a:cubicBezTo>
                  <a:pt x="3" y="212"/>
                  <a:pt x="0" y="379"/>
                  <a:pt x="7" y="545"/>
                </a:cubicBezTo>
                <a:cubicBezTo>
                  <a:pt x="14" y="711"/>
                  <a:pt x="37" y="915"/>
                  <a:pt x="52" y="1043"/>
                </a:cubicBezTo>
                <a:cubicBezTo>
                  <a:pt x="67" y="1171"/>
                  <a:pt x="60" y="1187"/>
                  <a:pt x="98" y="1316"/>
                </a:cubicBezTo>
                <a:cubicBezTo>
                  <a:pt x="136" y="1445"/>
                  <a:pt x="226" y="1687"/>
                  <a:pt x="279" y="1815"/>
                </a:cubicBezTo>
                <a:cubicBezTo>
                  <a:pt x="332" y="1943"/>
                  <a:pt x="362" y="1996"/>
                  <a:pt x="415" y="2087"/>
                </a:cubicBezTo>
                <a:cubicBezTo>
                  <a:pt x="468" y="2178"/>
                  <a:pt x="537" y="2276"/>
                  <a:pt x="597" y="2359"/>
                </a:cubicBezTo>
                <a:cubicBezTo>
                  <a:pt x="657" y="2442"/>
                  <a:pt x="710" y="2526"/>
                  <a:pt x="778" y="2586"/>
                </a:cubicBezTo>
                <a:cubicBezTo>
                  <a:pt x="846" y="2646"/>
                  <a:pt x="899" y="2677"/>
                  <a:pt x="1005" y="2722"/>
                </a:cubicBezTo>
                <a:cubicBezTo>
                  <a:pt x="1111" y="2767"/>
                  <a:pt x="1254" y="2843"/>
                  <a:pt x="1413" y="2858"/>
                </a:cubicBezTo>
                <a:cubicBezTo>
                  <a:pt x="1572" y="2873"/>
                  <a:pt x="1798" y="2820"/>
                  <a:pt x="1957" y="2812"/>
                </a:cubicBezTo>
                <a:cubicBezTo>
                  <a:pt x="2116" y="2804"/>
                  <a:pt x="2215" y="2850"/>
                  <a:pt x="2366" y="2812"/>
                </a:cubicBezTo>
                <a:cubicBezTo>
                  <a:pt x="2517" y="2774"/>
                  <a:pt x="2744" y="2669"/>
                  <a:pt x="2865" y="2586"/>
                </a:cubicBezTo>
                <a:cubicBezTo>
                  <a:pt x="2986" y="2503"/>
                  <a:pt x="3008" y="2427"/>
                  <a:pt x="3091" y="2314"/>
                </a:cubicBezTo>
                <a:cubicBezTo>
                  <a:pt x="3174" y="2201"/>
                  <a:pt x="3288" y="2049"/>
                  <a:pt x="3364" y="1905"/>
                </a:cubicBezTo>
                <a:cubicBezTo>
                  <a:pt x="3440" y="1761"/>
                  <a:pt x="3500" y="1603"/>
                  <a:pt x="3545" y="1452"/>
                </a:cubicBezTo>
                <a:cubicBezTo>
                  <a:pt x="3590" y="1301"/>
                  <a:pt x="3613" y="1149"/>
                  <a:pt x="3636" y="998"/>
                </a:cubicBezTo>
                <a:cubicBezTo>
                  <a:pt x="3659" y="847"/>
                  <a:pt x="3666" y="711"/>
                  <a:pt x="3681" y="545"/>
                </a:cubicBezTo>
                <a:cubicBezTo>
                  <a:pt x="3696" y="379"/>
                  <a:pt x="3718" y="91"/>
                  <a:pt x="3726" y="0"/>
                </a:cubicBez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993600" y="1254240"/>
            <a:ext cx="6193080" cy="4282920"/>
          </a:xfrm>
          <a:custGeom>
            <a:avLst/>
            <a:gdLst/>
            <a:ahLst/>
            <a:rect l="l" t="t" r="r" b="b"/>
            <a:pathLst>
              <a:path w="3901" h="2698">
                <a:moveTo>
                  <a:pt x="0" y="8"/>
                </a:moveTo>
                <a:cubicBezTo>
                  <a:pt x="151" y="4"/>
                  <a:pt x="303" y="0"/>
                  <a:pt x="454" y="53"/>
                </a:cubicBezTo>
                <a:cubicBezTo>
                  <a:pt x="605" y="106"/>
                  <a:pt x="764" y="227"/>
                  <a:pt x="908" y="325"/>
                </a:cubicBezTo>
                <a:cubicBezTo>
                  <a:pt x="1052" y="423"/>
                  <a:pt x="1195" y="507"/>
                  <a:pt x="1316" y="643"/>
                </a:cubicBezTo>
                <a:cubicBezTo>
                  <a:pt x="1437" y="779"/>
                  <a:pt x="1557" y="983"/>
                  <a:pt x="1633" y="1142"/>
                </a:cubicBezTo>
                <a:cubicBezTo>
                  <a:pt x="1709" y="1301"/>
                  <a:pt x="1724" y="1444"/>
                  <a:pt x="1769" y="1595"/>
                </a:cubicBezTo>
                <a:cubicBezTo>
                  <a:pt x="1814" y="1746"/>
                  <a:pt x="1890" y="1921"/>
                  <a:pt x="1905" y="2049"/>
                </a:cubicBezTo>
                <a:cubicBezTo>
                  <a:pt x="1920" y="2177"/>
                  <a:pt x="1845" y="2268"/>
                  <a:pt x="1860" y="2366"/>
                </a:cubicBezTo>
                <a:cubicBezTo>
                  <a:pt x="1875" y="2464"/>
                  <a:pt x="1883" y="2593"/>
                  <a:pt x="1996" y="2638"/>
                </a:cubicBezTo>
                <a:cubicBezTo>
                  <a:pt x="2109" y="2683"/>
                  <a:pt x="2443" y="2698"/>
                  <a:pt x="2541" y="2638"/>
                </a:cubicBezTo>
                <a:cubicBezTo>
                  <a:pt x="2639" y="2578"/>
                  <a:pt x="2571" y="2397"/>
                  <a:pt x="2586" y="2276"/>
                </a:cubicBezTo>
                <a:cubicBezTo>
                  <a:pt x="2601" y="2155"/>
                  <a:pt x="2616" y="2034"/>
                  <a:pt x="2631" y="1913"/>
                </a:cubicBezTo>
                <a:cubicBezTo>
                  <a:pt x="2646" y="1792"/>
                  <a:pt x="2647" y="1678"/>
                  <a:pt x="2677" y="1550"/>
                </a:cubicBezTo>
                <a:cubicBezTo>
                  <a:pt x="2707" y="1422"/>
                  <a:pt x="2753" y="1278"/>
                  <a:pt x="2813" y="1142"/>
                </a:cubicBezTo>
                <a:cubicBezTo>
                  <a:pt x="2873" y="1006"/>
                  <a:pt x="2956" y="854"/>
                  <a:pt x="3039" y="733"/>
                </a:cubicBezTo>
                <a:cubicBezTo>
                  <a:pt x="3122" y="612"/>
                  <a:pt x="3206" y="522"/>
                  <a:pt x="3312" y="416"/>
                </a:cubicBezTo>
                <a:cubicBezTo>
                  <a:pt x="3418" y="310"/>
                  <a:pt x="3577" y="159"/>
                  <a:pt x="3675" y="98"/>
                </a:cubicBezTo>
                <a:cubicBezTo>
                  <a:pt x="3773" y="37"/>
                  <a:pt x="3837" y="45"/>
                  <a:pt x="3901" y="53"/>
                </a:cubicBez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549560" y="234648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780120" y="234648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rc 13"/>
          <p:cNvSpPr/>
          <p:nvPr/>
        </p:nvSpPr>
        <p:spPr>
          <a:xfrm flipH="1" flipV="1">
            <a:off x="489600" y="1409040"/>
            <a:ext cx="3384360" cy="403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rc 14"/>
          <p:cNvSpPr/>
          <p:nvPr/>
        </p:nvSpPr>
        <p:spPr>
          <a:xfrm flipV="1">
            <a:off x="5170320" y="1482480"/>
            <a:ext cx="3600720" cy="403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004120" y="357012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265080" y="357012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001960" y="4506840"/>
            <a:ext cx="129672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ivest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891040" y="4506840"/>
            <a:ext cx="1295640" cy="2009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r-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370320" y="4290840"/>
            <a:ext cx="237636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370320" y="4290840"/>
            <a:ext cx="237636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45960" y="1914480"/>
            <a:ext cx="8569440" cy="468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1859040" y="3138480"/>
            <a:ext cx="547200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45960" y="1914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i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45960" y="906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P 1.2 Mand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040" y="3282840"/>
            <a:ext cx="1366920" cy="239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GP-hum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b-hum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Hig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s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verty 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R integ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SLO-2/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77920" y="3282840"/>
            <a:ext cx="128556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Administr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es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On-go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vest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859040" y="3138480"/>
            <a:ext cx="54720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"/>
          <p:cNvSpPr/>
          <p:nvPr/>
        </p:nvSpPr>
        <p:spPr>
          <a:xfrm flipH="1">
            <a:off x="7331040" y="2274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90680" y="2274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2001960" y="3498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7"/>
          <p:cNvSpPr/>
          <p:nvPr/>
        </p:nvSpPr>
        <p:spPr>
          <a:xfrm flipH="1">
            <a:off x="5746680" y="3498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490680" y="3282840"/>
            <a:ext cx="129528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7475400" y="328284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891040" y="4506840"/>
            <a:ext cx="1295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2001960" y="4506840"/>
            <a:ext cx="129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58400" y="5110200"/>
            <a:ext cx="1587240" cy="946440"/>
          </a:xfrm>
          <a:prstGeom prst="rect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put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comes fro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hemes 2.1, 2.2, 2.3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rc 37"/>
          <p:cNvSpPr/>
          <p:nvPr/>
        </p:nvSpPr>
        <p:spPr>
          <a:xfrm flipH="1">
            <a:off x="5099040" y="1193760"/>
            <a:ext cx="2736720" cy="3889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993600" y="1266840"/>
            <a:ext cx="3024360" cy="38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987240" y="97776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caling 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018160" y="105084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Zooming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440" y="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ographical log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451320" y="199692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3520" y="1252440"/>
            <a:ext cx="275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1 Systems analysis and synthe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22720" y="1252440"/>
            <a:ext cx="2857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 Integrated systems impr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440" y="1252440"/>
            <a:ext cx="2743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3 Scaling and institutional innov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85800" y="199080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172200" y="1990800"/>
            <a:ext cx="2514600" cy="32004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200400"/>
              <a:gd name="textAreaBottom" fmla="*/ 3077640 h 3200400"/>
            </a:gdLst>
            <a:ahLst/>
            <a:rect l="textAreaLeft" t="textAreaTop" r="textAreaRight" b="textAreaBottom"/>
            <a:pathLst>
              <a:path w="21600" h="27490">
                <a:moveTo>
                  <a:pt x="3600" y="0"/>
                </a:moveTo>
                <a:arcTo wR="3600" hR="3600" stAng="16200000" swAng="-5400000"/>
                <a:lnTo>
                  <a:pt x="0" y="23890"/>
                </a:lnTo>
                <a:arcTo wR="3600" hR="3600" stAng="10800000" swAng="-5400000"/>
                <a:lnTo>
                  <a:pt x="18000" y="2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457440" y="6006960"/>
            <a:ext cx="24386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752480" y="3597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ajec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5261040"/>
            <a:ext cx="11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  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1600200" y="317016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733920" y="2448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81400" y="3809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819680" y="385776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produ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886200" y="3429000"/>
            <a:ext cx="298440" cy="419040"/>
          </a:xfrm>
          <a:custGeom>
            <a:avLst/>
            <a:gdLst>
              <a:gd name="textAreaLeft" fmla="*/ 0 w 298440"/>
              <a:gd name="textAreaRight" fmla="*/ 298800 w 2984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343400" y="412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3581280" y="49053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farm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581280" y="52959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  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605720" y="5261040"/>
            <a:ext cx="11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65530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area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6477120" y="244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sca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324480" y="3048120"/>
            <a:ext cx="20574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environment (markets, policies, institutions and infrastru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ility options &amp; path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6124680" y="49053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portunities mainstrea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46"/>
          <p:cNvSpPr/>
          <p:nvPr/>
        </p:nvSpPr>
        <p:spPr>
          <a:xfrm>
            <a:off x="5900760" y="5191200"/>
            <a:ext cx="1587600" cy="11332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4572000" y="5191200"/>
            <a:ext cx="4680" cy="81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9"/>
          <p:cNvSpPr/>
          <p:nvPr/>
        </p:nvSpPr>
        <p:spPr>
          <a:xfrm flipH="1" rot="375000">
            <a:off x="5006880" y="3446640"/>
            <a:ext cx="354240" cy="384120"/>
          </a:xfrm>
          <a:custGeom>
            <a:avLst/>
            <a:gdLst>
              <a:gd name="textAreaLeft" fmla="*/ 360 w 354240"/>
              <a:gd name="textAreaRight" fmla="*/ 354960 w 354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6"/>
          <p:cNvSpPr/>
          <p:nvPr/>
        </p:nvSpPr>
        <p:spPr>
          <a:xfrm flipH="1">
            <a:off x="1856520" y="5181480"/>
            <a:ext cx="1600200" cy="113364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998640" y="2438280"/>
            <a:ext cx="19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 analy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U-Turn Arrow 39"/>
          <p:cNvSpPr/>
          <p:nvPr/>
        </p:nvSpPr>
        <p:spPr>
          <a:xfrm flipH="1" rot="16200000">
            <a:off x="2964600" y="540360"/>
            <a:ext cx="2438280" cy="6843600"/>
          </a:xfrm>
          <a:custGeom>
            <a:avLst/>
            <a:gdLst/>
            <a:ahLst/>
            <a:rect l="l" t="t" r="r" b="b"/>
            <a:pathLst>
              <a:path w="2438400" h="6843713">
                <a:moveTo>
                  <a:pt x="0" y="6843713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88438"/>
                  <a:pt x="2128309" y="4912722"/>
                  <a:pt x="2128309" y="6837006"/>
                </a:cubicBezTo>
                <a:lnTo>
                  <a:pt x="2438400" y="6837006"/>
                </a:lnTo>
                <a:lnTo>
                  <a:pt x="2019629" y="6837006"/>
                </a:lnTo>
                <a:lnTo>
                  <a:pt x="1600858" y="6837006"/>
                </a:lnTo>
                <a:lnTo>
                  <a:pt x="1910950" y="6837006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43713"/>
                </a:lnTo>
                <a:lnTo>
                  <a:pt x="0" y="6843713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U-Turn Arrow 40"/>
          <p:cNvSpPr/>
          <p:nvPr/>
        </p:nvSpPr>
        <p:spPr>
          <a:xfrm rot="5400000">
            <a:off x="3962160" y="533160"/>
            <a:ext cx="2438280" cy="6858000"/>
          </a:xfrm>
          <a:custGeom>
            <a:avLst/>
            <a:gdLst/>
            <a:ahLst/>
            <a:rect l="l" t="t" r="r" b="b"/>
            <a:pathLst>
              <a:path w="2438400" h="6858000">
                <a:moveTo>
                  <a:pt x="0" y="6858000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93196"/>
                  <a:pt x="2128309" y="4922237"/>
                  <a:pt x="2128309" y="6851279"/>
                </a:cubicBezTo>
                <a:lnTo>
                  <a:pt x="2438400" y="6851279"/>
                </a:lnTo>
                <a:lnTo>
                  <a:pt x="2019629" y="6851279"/>
                </a:lnTo>
                <a:lnTo>
                  <a:pt x="1600858" y="6851279"/>
                </a:lnTo>
                <a:lnTo>
                  <a:pt x="1910950" y="6851279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58000"/>
                </a:lnTo>
                <a:lnTo>
                  <a:pt x="0" y="68580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1657440" y="2590920"/>
            <a:ext cx="146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ritical entry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5238720" y="2590920"/>
            <a:ext cx="146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581120" y="4495680"/>
            <a:ext cx="14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lobal synthe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94040" y="29671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1 Markets and other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8098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sit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3657600" y="2743200"/>
            <a:ext cx="114480" cy="227880"/>
            <a:chOff x="3657600" y="2743200"/>
            <a:chExt cx="114480" cy="227880"/>
          </a:xfrm>
        </p:grpSpPr>
        <p:sp>
          <p:nvSpPr>
            <p:cNvPr id="149" name="Straight Connector 9"/>
            <p:cNvSpPr/>
            <p:nvPr/>
          </p:nvSpPr>
          <p:spPr>
            <a:xfrm>
              <a:off x="365760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53"/>
            <p:cNvSpPr/>
            <p:nvPr/>
          </p:nvSpPr>
          <p:spPr>
            <a:xfrm flipV="1">
              <a:off x="365760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4346280" y="4648320"/>
            <a:ext cx="114120" cy="227880"/>
            <a:chOff x="4346280" y="4648320"/>
            <a:chExt cx="114120" cy="227880"/>
          </a:xfrm>
        </p:grpSpPr>
        <p:sp>
          <p:nvSpPr>
            <p:cNvPr id="152" name="Straight Connector 56"/>
            <p:cNvSpPr/>
            <p:nvPr/>
          </p:nvSpPr>
          <p:spPr>
            <a:xfrm flipH="1">
              <a:off x="4346280" y="464832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traight Connector 57"/>
            <p:cNvSpPr/>
            <p:nvPr/>
          </p:nvSpPr>
          <p:spPr>
            <a:xfrm flipH="1" flipV="1">
              <a:off x="4346280" y="476208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58"/>
          <p:cNvGrpSpPr/>
          <p:nvPr/>
        </p:nvGrpSpPr>
        <p:grpSpPr>
          <a:xfrm>
            <a:off x="6324480" y="4643280"/>
            <a:ext cx="114480" cy="227880"/>
            <a:chOff x="6324480" y="4643280"/>
            <a:chExt cx="114480" cy="227880"/>
          </a:xfrm>
        </p:grpSpPr>
        <p:sp>
          <p:nvSpPr>
            <p:cNvPr id="155" name="Straight Connector 59"/>
            <p:cNvSpPr/>
            <p:nvPr/>
          </p:nvSpPr>
          <p:spPr>
            <a:xfrm flipH="1">
              <a:off x="6324480" y="464328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60"/>
            <p:cNvSpPr/>
            <p:nvPr/>
          </p:nvSpPr>
          <p:spPr>
            <a:xfrm flipH="1" flipV="1">
              <a:off x="6324480" y="475704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1"/>
          <p:cNvGrpSpPr/>
          <p:nvPr/>
        </p:nvGrpSpPr>
        <p:grpSpPr>
          <a:xfrm>
            <a:off x="8382240" y="3695760"/>
            <a:ext cx="227880" cy="114120"/>
            <a:chOff x="8382240" y="3695760"/>
            <a:chExt cx="227880" cy="114120"/>
          </a:xfrm>
        </p:grpSpPr>
        <p:sp>
          <p:nvSpPr>
            <p:cNvPr id="158" name="Straight Connector 62"/>
            <p:cNvSpPr/>
            <p:nvPr/>
          </p:nvSpPr>
          <p:spPr>
            <a:xfrm flipH="1">
              <a:off x="849600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63"/>
            <p:cNvSpPr/>
            <p:nvPr/>
          </p:nvSpPr>
          <p:spPr>
            <a:xfrm>
              <a:off x="838224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67"/>
          <p:cNvGrpSpPr/>
          <p:nvPr/>
        </p:nvGrpSpPr>
        <p:grpSpPr>
          <a:xfrm>
            <a:off x="7010280" y="2743200"/>
            <a:ext cx="114480" cy="227880"/>
            <a:chOff x="7010280" y="2743200"/>
            <a:chExt cx="114480" cy="227880"/>
          </a:xfrm>
        </p:grpSpPr>
        <p:sp>
          <p:nvSpPr>
            <p:cNvPr id="161" name="Straight Connector 68"/>
            <p:cNvSpPr/>
            <p:nvPr/>
          </p:nvSpPr>
          <p:spPr>
            <a:xfrm>
              <a:off x="701028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69"/>
            <p:cNvSpPr/>
            <p:nvPr/>
          </p:nvSpPr>
          <p:spPr>
            <a:xfrm flipV="1">
              <a:off x="701028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70"/>
          <p:cNvGrpSpPr/>
          <p:nvPr/>
        </p:nvGrpSpPr>
        <p:grpSpPr>
          <a:xfrm>
            <a:off x="762120" y="3662280"/>
            <a:ext cx="227880" cy="114480"/>
            <a:chOff x="762120" y="3662280"/>
            <a:chExt cx="227880" cy="114480"/>
          </a:xfrm>
        </p:grpSpPr>
        <p:sp>
          <p:nvSpPr>
            <p:cNvPr id="164" name="Straight Connector 71"/>
            <p:cNvSpPr/>
            <p:nvPr/>
          </p:nvSpPr>
          <p:spPr>
            <a:xfrm flipV="1">
              <a:off x="76212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72"/>
            <p:cNvSpPr/>
            <p:nvPr/>
          </p:nvSpPr>
          <p:spPr>
            <a:xfrm flipH="1" flipV="1">
              <a:off x="87588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28"/>
          <p:cNvSpPr/>
          <p:nvPr/>
        </p:nvSpPr>
        <p:spPr>
          <a:xfrm>
            <a:off x="1143000" y="2133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Program Structure is built around 3 Strategic Research Themes (SR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2120" y="992160"/>
            <a:ext cx="8616960" cy="586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umidtropics will operate through R4D platforms in Action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integrates the research outcomes of other C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Users\JTOliver\Desktop\Production systems.jpg"/>
          <p:cNvPicPr/>
          <p:nvPr/>
        </p:nvPicPr>
        <p:blipFill>
          <a:blip r:embed="rId1"/>
          <a:srcRect l="13340" t="31511" r="12671" b="20001"/>
          <a:stretch/>
        </p:blipFill>
        <p:spPr>
          <a:xfrm>
            <a:off x="1523880" y="2790720"/>
            <a:ext cx="6064200" cy="284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JTOliver\Desktop\Dry-Wet.jpg"/>
          <p:cNvPicPr/>
          <p:nvPr/>
        </p:nvPicPr>
        <p:blipFill>
          <a:blip r:embed="rId2"/>
          <a:srcRect l="0" t="24914" r="0" b="67920"/>
          <a:stretch/>
        </p:blipFill>
        <p:spPr>
          <a:xfrm>
            <a:off x="498600" y="2398680"/>
            <a:ext cx="811188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RPS diagram.png"/>
          <p:cNvPicPr/>
          <p:nvPr/>
        </p:nvPicPr>
        <p:blipFill>
          <a:blip r:embed="rId3"/>
          <a:stretch/>
        </p:blipFill>
        <p:spPr>
          <a:xfrm>
            <a:off x="360360" y="1297080"/>
            <a:ext cx="83138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425520"/>
            <a:ext cx="81532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2"/>
          <p:cNvSpPr/>
          <p:nvPr/>
        </p:nvSpPr>
        <p:spPr>
          <a:xfrm>
            <a:off x="4876920" y="457200"/>
            <a:ext cx="3809880" cy="3429000"/>
          </a:xfrm>
          <a:prstGeom prst="wedgeRoundRectCallout">
            <a:avLst>
              <a:gd name="adj1" fmla="val -75763"/>
              <a:gd name="adj2" fmla="val 11476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029200" y="609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Includes the activities that are necessary to ensure that project activities are abl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if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rget communities effectively so that promising interventions are identified and inappropriate interventions rej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228600" y="228600"/>
            <a:ext cx="4114800" cy="4343400"/>
          </a:xfrm>
          <a:prstGeom prst="wedgeRoundRectCallout">
            <a:avLst>
              <a:gd name="adj1" fmla="val 60754"/>
              <a:gd name="adj2" fmla="val 33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40176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is output is delivered via a broad approach of participatory technology development and / or identification. This requires projects to allow for the identifica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isting sound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communities that might be more widely propagated, the adaptation of these and oth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ogenous innov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more effect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innovations from multiple sour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2"/>
          <p:cNvSpPr/>
          <p:nvPr/>
        </p:nvSpPr>
        <p:spPr>
          <a:xfrm>
            <a:off x="5486400" y="214200"/>
            <a:ext cx="3505320" cy="5338800"/>
          </a:xfrm>
          <a:prstGeom prst="wedgeRoundRectCallout">
            <a:avLst>
              <a:gd name="adj1" fmla="val -70856"/>
              <a:gd name="adj2" fmla="val 2155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38680" y="228600"/>
            <a:ext cx="32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first two outputs will generate integrated technology combinations that are mo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ly targe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armer’s real development needs. This third output recognises that, even where such technology combinations can be identified,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roaches used for scaling them ou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not always be effective and seeks to redress this short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2"/>
          <p:cNvSpPr/>
          <p:nvPr/>
        </p:nvSpPr>
        <p:spPr>
          <a:xfrm>
            <a:off x="5486400" y="214200"/>
            <a:ext cx="3352680" cy="1952640"/>
          </a:xfrm>
          <a:prstGeom prst="wedgeRoundRectCallout">
            <a:avLst>
              <a:gd name="adj1" fmla="val -73495"/>
              <a:gd name="adj2" fmla="val -3959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638680" y="22860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4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M and E Pro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programme will aim to wrap the three process-oriented outputs in a firm M and E fram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1. Mega-site stratification by ‘development domains’ within and across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2. Prioritize mega-site strata geographical units and compare/contrast with researcher selected research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3. Farm household typ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4. Problem identification and pathways for addressing these constraints within domain/ty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5. Inventorize inno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6. Ex-ante potential of o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7. Priority setting and planning for integrated systems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8. Program-wide synthesis and co-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685800"/>
            <a:ext cx="914400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1. Identification of research teams within R4D platform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the R4D platforms and constituted around critical entry points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te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identified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 innovati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2. Identification modeling and decision support tools for the ex-ante technology identification, trade-off analysis, evaluation of the ex-ante sustainability and resilience of options, and guiding future re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decisions, related to the identification of critical entry points, anticipating their potential benefits, and evaluating trade-offs will requi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rm-level modeling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ecific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-term monitoring si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stablished to gather the necessary information on the dynamics of these indicators as related to the options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 too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expected to be a combination of formal modeling tools, compendia of validated best practices, ‘rules-of-thumb’, amongst 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3. Participatory evaluation and adaptation of appropriate combinations of technologies and interven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4. Addressing new research challenges and opportunities emerging from th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59:54Z</dcterms:created>
  <dc:creator>bvanlauwe</dc:creator>
  <dc:description/>
  <dc:language>en-US</dc:language>
  <cp:lastModifiedBy>LeBorgne, Ewen (ILRI)</cp:lastModifiedBy>
  <dcterms:modified xsi:type="dcterms:W3CDTF">2012-10-03T11:32:46Z</dcterms:modified>
  <cp:revision>11</cp:revision>
  <dc:subject/>
  <dc:title>PowerPoint Presentation</dc:title>
</cp:coreProperties>
</file>